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02D-1674-480D-A864-5772D924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45C-DB19-4C9E-967F-74C9ECD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94B-C373-4F96-8B71-6B1E242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8B7-8BD6-429D-A63C-CE65870E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E22F-6B02-4988-A0DB-58264636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5DD-8B1E-4B75-9A50-D95A4CA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5F0D-53E9-439C-AEE6-D9F3584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D1B-4A77-4CBD-983D-BA6CD728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D336-CB6B-4198-BC39-C3A6CF82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6408-AF8F-4236-AD9F-3069CA97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620-D21C-4187-AE8A-1B64216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850-937F-4917-8F55-6A8F8177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63DE-5689-437E-B2D9-7AA0D30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43D6-C64B-4FFF-A0C0-76D58E3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BB64-EEC2-4A00-B221-351F33B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CBE-A40A-4CB6-BED7-7E83839E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2963-770D-4428-B06C-5681FFFD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33C4-CFB3-4119-B82E-16D1BD2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B1F0-CBBA-47B2-93FF-49145F8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5FE9-AF96-4A0F-A0AC-9D67DFF1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BE8D-76CE-4744-B3FC-600F9D60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658C-2A1B-4796-9442-E8F9270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18A-936F-4178-81C8-45F1786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9A29-D83C-468E-A259-855FFBBB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C111-A198-47DC-A1F4-30181EF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8EBF-4015-401E-B6B5-CF75D28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76CE-F063-4560-B49B-431AC845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1998-6249-4C7C-9D9F-1B95D7A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E891-389D-4FE3-A221-1A755B16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30D2-8FD7-43F9-B927-599392C9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F62-E3CF-4F48-A155-31D5E9FA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83E-75D3-446A-9A54-DFA3C6C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888-896F-431B-B1A9-D2A8D559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5C2-23E9-4339-8C71-F4F9D58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9E8-043A-4163-ABEC-82B9B12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75-E403-49A7-B24E-F6EB30B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506-C768-446A-A219-E5815ED8F8E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D73F-142B-40BE-8622-3EBE00272B9A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EF3-A55A-48FC-80F8-D1668AFBB9F2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Genf_Cath&#233;drale_St-Pierr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GÈNE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5" descr="180px-Escudo_de_Ginebra"/>
          <p:cNvPicPr/>
          <p:nvPr/>
        </p:nvPicPr>
        <p:blipFill>
          <a:blip r:embed="rId1"/>
          <a:stretch/>
        </p:blipFill>
        <p:spPr>
          <a:xfrm>
            <a:off x="2627280" y="1773360"/>
            <a:ext cx="3911760" cy="391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mange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85840" y="2362320"/>
            <a:ext cx="70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s Tilleul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(délicieuses pizzas cuites au feu de bois-spécialités italienne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 bistrot 37°2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méditerranéenne- spécialités marocai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afé Fontaine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u marché, innovante et créa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Bamboo Garden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cuisine de Corée, de Chine, de  Malaisie et d’Indonés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quesos"/>
          <p:cNvPicPr/>
          <p:nvPr/>
        </p:nvPicPr>
        <p:blipFill>
          <a:blip r:embed="rId1"/>
          <a:stretch/>
        </p:blipFill>
        <p:spPr>
          <a:xfrm rot="20313000">
            <a:off x="323640" y="404280"/>
            <a:ext cx="2774880" cy="21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vinos"/>
          <p:cNvPicPr/>
          <p:nvPr/>
        </p:nvPicPr>
        <p:blipFill>
          <a:blip r:embed="rId2"/>
          <a:stretch/>
        </p:blipFill>
        <p:spPr>
          <a:xfrm>
            <a:off x="108000" y="3213000"/>
            <a:ext cx="19954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Tahoma"/>
              </a:rPr>
              <a:t>Quelle est le climat dans cette ville d’après les saisons 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4" descr="invierno"/>
          <p:cNvPicPr/>
          <p:nvPr/>
        </p:nvPicPr>
        <p:blipFill>
          <a:blip r:embed="rId1"/>
          <a:stretch/>
        </p:blipFill>
        <p:spPr>
          <a:xfrm>
            <a:off x="395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verano"/>
          <p:cNvPicPr/>
          <p:nvPr/>
        </p:nvPicPr>
        <p:blipFill>
          <a:blip r:embed="rId2"/>
          <a:stretch/>
        </p:blipFill>
        <p:spPr>
          <a:xfrm>
            <a:off x="4788000" y="1700280"/>
            <a:ext cx="3828960" cy="2870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267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h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788000" y="4610160"/>
            <a:ext cx="267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é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se procurer de l’argent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Bureaux de Change à Genè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oney &amp; Com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pl. de Montbrillant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av. Louis-Casaï 2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BNC Change (Suisse)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e Zurich 3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uro change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Paul-Bouchet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hange Cendrier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Cendrier 1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gros-Genèv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rue du Mont-Blanc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3789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Quelle est la monnaie du pays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franc suisse (CHF) est utilisé par la Su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  0,77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-- 1,08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Franc Suisse ----------- --4,39 Peso Argen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Archivo:CHF coins.jpg"/>
          <p:cNvPicPr/>
          <p:nvPr/>
        </p:nvPicPr>
        <p:blipFill>
          <a:blip r:embed="rId1"/>
          <a:stretch/>
        </p:blipFill>
        <p:spPr>
          <a:xfrm>
            <a:off x="6840360" y="4799160"/>
            <a:ext cx="1619280" cy="1942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rchivo:CHF Banknotes.jpg"/>
          <p:cNvPicPr/>
          <p:nvPr/>
        </p:nvPicPr>
        <p:blipFill>
          <a:blip r:embed="rId2"/>
          <a:stretch/>
        </p:blipFill>
        <p:spPr>
          <a:xfrm>
            <a:off x="6732720" y="1484280"/>
            <a:ext cx="1841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  <a:ea typeface="Calibri"/>
              </a:rPr>
              <a:t>Où est situé le pays choisi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71760" y="1285920"/>
            <a:ext cx="3071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SUIS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16"/>
                </a:solidFill>
                <a:latin typeface="Tahoma"/>
              </a:rPr>
              <a:t>C’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 un pays d'Europe de l'Ouest sans accès à la m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le est entourée par l’Allemagne, la France, l’Italie, l’Autriche et le Liechte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pays est formé </a:t>
            </a:r>
            <a:r>
              <a:rPr b="0" lang="fr-FR" sz="2400" spc="-1" strike="noStrike">
                <a:solidFill>
                  <a:srgbClr val="161616"/>
                </a:solidFill>
                <a:latin typeface="Tahoma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26 cant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a capitale est Ber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0 Imagen" descr="713px-Europe-Switzerland.svg.png"/>
          <p:cNvPicPr/>
          <p:nvPr/>
        </p:nvPicPr>
        <p:blipFill>
          <a:blip r:embed="rId1"/>
          <a:stretch/>
        </p:blipFill>
        <p:spPr>
          <a:xfrm>
            <a:off x="357120" y="1285920"/>
            <a:ext cx="561204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ahoma"/>
              </a:rPr>
              <a:t>Où est située la ville choisie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ÈN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C’est la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uxième ville du pays ave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188 142 habi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Elle est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ituée sur les </a:t>
            </a: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bord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lac de Genève au pied des Al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lle abrite le siège européen des Nations-U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ahoma"/>
              </a:rPr>
              <a:t>Que faire dans cette ville ?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39640" y="90252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Lac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a Vieille Vil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Bâtiment des Nations Unies et le Musée de la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roix-Roug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arc du Bastion et la Place Neuv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Pâquis et Les Grott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e Salèv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Fêtes et Manifestations Cul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onuments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ur des Réformateurs, l'Horloge Fleurie, le Monument Brunswick, le Jet d'eau et le Palais des Nations, La Cathédrale Saint-Pierre, le Musée international de la Ré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5689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et d’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chier:Genf Cathédrale St-Pier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914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643280" y="189000"/>
            <a:ext cx="5689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thédrale Saint-P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g_hi" descr="http://t3.gstatic.com/images?q=tbn:ANd9GcR9ehl6JqETiGk96RRWoyBlWO-ZWX8ryU0cKOLLQXeqNj2xV_Ge3A"/>
          <p:cNvPicPr/>
          <p:nvPr/>
        </p:nvPicPr>
        <p:blipFill>
          <a:blip r:embed="rId3"/>
          <a:stretch/>
        </p:blipFill>
        <p:spPr>
          <a:xfrm>
            <a:off x="5003640" y="3789360"/>
            <a:ext cx="2905200" cy="2808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755640" y="4797360"/>
            <a:ext cx="5689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âtiment des Nation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es et le Musée de l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oix-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Fichier:Jet-d'eau-Genève.jpg"/>
          <p:cNvPicPr/>
          <p:nvPr/>
        </p:nvPicPr>
        <p:blipFill>
          <a:blip r:embed="rId4"/>
          <a:stretch/>
        </p:blipFill>
        <p:spPr>
          <a:xfrm>
            <a:off x="971640" y="83664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5111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rou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Carouge, Suiza"/>
          <p:cNvPicPr/>
          <p:nvPr/>
        </p:nvPicPr>
        <p:blipFill>
          <a:blip r:embed="rId1"/>
          <a:stretch/>
        </p:blipFill>
        <p:spPr>
          <a:xfrm>
            <a:off x="1042920" y="907920"/>
            <a:ext cx="3600360" cy="252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27280" y="4770360"/>
            <a:ext cx="561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ché aux puces de Plainpalai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media-12125" descr="4966_1120855114513_1621127854_322301_5478568_n.jpg"/>
          <p:cNvPicPr/>
          <p:nvPr/>
        </p:nvPicPr>
        <p:blipFill>
          <a:blip r:embed="rId2"/>
          <a:stretch/>
        </p:blipFill>
        <p:spPr>
          <a:xfrm>
            <a:off x="395280" y="3716280"/>
            <a:ext cx="3024360" cy="2800440"/>
          </a:xfrm>
          <a:prstGeom prst="rect">
            <a:avLst/>
          </a:prstGeom>
          <a:ln w="0">
            <a:noFill/>
          </a:ln>
        </p:spPr>
      </p:pic>
      <p:pic>
        <p:nvPicPr>
          <p:cNvPr id="148" name="il_fi" descr="http://www.site-archeologique.ch/img_site/presse-3.jpg"/>
          <p:cNvPicPr/>
          <p:nvPr/>
        </p:nvPicPr>
        <p:blipFill>
          <a:blip r:embed="rId3"/>
          <a:stretch/>
        </p:blipFill>
        <p:spPr>
          <a:xfrm>
            <a:off x="5219640" y="981000"/>
            <a:ext cx="3086280" cy="2136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5148360" y="333360"/>
            <a:ext cx="511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ieille-vi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ffcc"/>
                </a:solidFill>
                <a:uFillTx/>
                <a:latin typeface="Tahoma"/>
              </a:rPr>
              <a:t>L´impératrice Sis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il_fi" descr="http://farm4.static.flickr.com/3522/3724117712_aa28b35992.jpg"/>
          <p:cNvPicPr/>
          <p:nvPr/>
        </p:nvPicPr>
        <p:blipFill>
          <a:blip r:embed="rId1"/>
          <a:stretch/>
        </p:blipFill>
        <p:spPr>
          <a:xfrm>
            <a:off x="2843280" y="1268280"/>
            <a:ext cx="37512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arriver à Genève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avio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</a:t>
            </a:r>
            <a:r>
              <a:rPr b="0" lang="fr-FR" sz="3200" spc="-1" strike="noStrike">
                <a:solidFill>
                  <a:srgbClr val="161616"/>
                </a:solidFill>
                <a:latin typeface="Tahoma"/>
              </a:rPr>
              <a:t>l’autoro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train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394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Comment se déplacer dans la ville ?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thumb-avion_airbus_a380"/>
          <p:cNvPicPr/>
          <p:nvPr/>
        </p:nvPicPr>
        <p:blipFill>
          <a:blip r:embed="rId1"/>
          <a:stretch/>
        </p:blipFill>
        <p:spPr>
          <a:xfrm rot="20838000">
            <a:off x="493200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olectivo%20nuevo%20copy"/>
          <p:cNvPicPr/>
          <p:nvPr/>
        </p:nvPicPr>
        <p:blipFill>
          <a:blip r:embed="rId2"/>
          <a:stretch/>
        </p:blipFill>
        <p:spPr>
          <a:xfrm rot="555600">
            <a:off x="6227280" y="4797000"/>
            <a:ext cx="2190960" cy="164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cc"/>
                </a:solidFill>
                <a:latin typeface="Tahoma"/>
              </a:rPr>
              <a:t>Où dormir 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es Arcad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Lid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St Gerv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Classe moy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Admi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Capito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'hôtel Des Al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Hotel 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övenpick Hotel &amp; Casino Gene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Plein aux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Mandarin Orient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5:06:16Z</dcterms:created>
  <dc:creator>SOFIA ANTOGNINI</dc:creator>
  <dc:description/>
  <dc:language>en-US</dc:language>
  <cp:lastModifiedBy>Master</cp:lastModifiedBy>
  <dcterms:modified xsi:type="dcterms:W3CDTF">2011-04-14T17:19:41Z</dcterms:modified>
  <cp:revision>10</cp:revision>
  <dc:subject/>
  <dc:title>Où est situé le pays choisi? </dc:title>
</cp:coreProperties>
</file>